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258D-011A-42C1-85CD-8CF235B19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3DCF-E499-4713-8F6E-8E8AC33E5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D8BE-2B4A-4401-9177-CFE994F95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F1DB-C377-412B-B875-409A73F53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E1E1-65F2-4DE1-A21C-2E2F5100B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757E-D11F-4972-A0FC-831FCBB9F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2A0B-6B3A-403B-9248-013445801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8C8E-FD76-442C-B4F1-6271AA042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98BE-8453-4886-AF9A-77FBF3FFF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F958-EC31-42B4-BD53-D676BC744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578C-4347-44BE-976A-9CEF1D812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8EEF-2F76-44A7-9772-91125D8F9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FCB9-40CA-49E2-A280-27FE95767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A8A7-85A2-44F2-8A2E-781EC7585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080E-6369-4F9D-B4ED-374C692C4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2825-89F2-42CF-83F8-C583B52F7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D0FE-C74F-4CED-BEF2-30F4655D8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7718-3396-435A-92FD-9BD12BB79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3BF5-3165-480B-8CCB-68F7B3523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9EE4-C225-4D4A-9E0F-7D32245AA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F815-BBC8-4E2D-88AF-DFC5CDBEC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7B21-E11B-4AF4-9AFA-EC21FEF5B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59B2-9FB1-4E8B-AFCD-DFA2B42FE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B7A6-B70A-4364-B9CE-11DBDE2CD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2982-FB99-4E40-B2F3-48FE6641B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56D3-1D5E-4824-AE72-D122232BB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35FB-773C-41B3-AE74-26BAB8864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40C8-749A-4E5C-BAB3-1463634D6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BC9E-2867-49F7-A9FC-2BDDD7EE7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68AC-49C8-4690-A4CC-82A19776E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11EA-DE73-4FA9-80A4-FF0D01DA7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CD7E-9D92-4738-B324-748C7E4B0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CD69-CC4C-4380-83AE-2478A5EFF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0A56-5DB8-45B5-B674-0B7571C4F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538E-CC22-4F1D-89FE-E0ADB7CE2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32C2-2994-40B0-9E07-3862AC110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DCF8-416F-4E32-A592-1E75D59BE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75B-BBE6-4F23-B1D3-E156EE79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11A-99EF-460B-BAF1-2846F40C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D795-D538-49BD-9DF2-E4880041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116-783E-444F-870F-CEC300FC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8E45-4BF3-45DB-A2B2-0D9E9BE9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C27C-14F2-45ED-B547-5A3DDC21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1453-190F-4D41-9118-D3A228B2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E4D0-46E7-4C42-9D0B-104C5D0D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AE63-11B5-4A81-9AB2-7AA01E88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D9D4-4A27-4A86-9231-4CC4287B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0A88-8256-4121-8546-D5608259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CF1-2581-4E59-8630-1A49F018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6B44-9040-49CB-916F-F22B64B2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2D07-2888-4793-8981-CA3591A5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0867-3167-4205-8720-8A5328D6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449C-7950-4A03-A548-69A49F6C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7608-7E04-49B1-83E0-1DFEF5B6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E92-275F-406C-8A9A-5E0EDCFC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131-BED6-47F1-8CF2-04D5A07C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B53-53B9-4D9F-A847-6C7AF04B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3B9C-AF82-434C-9D44-780879DE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C91B-F244-4BE2-BD0C-4F4D791E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5C7D-E8F7-4998-974B-EE7E05BA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4DD-77D7-47D5-BF4D-B14B6823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F498-1D6E-4FFA-B0C6-B5C9D077A9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5030-317A-41CF-BF9F-446556D46C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karenlancour@charter.ne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dc.gov/excite/glossary.htm#Epidemic" TargetMode="External"/><Relationship Id="rId2" Type="http://schemas.openxmlformats.org/officeDocument/2006/relationships/hyperlink" Target="http://www.cdc.gov/excite/glossary.htm#Proportio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oinc.org/" TargetMode="External"/><Relationship Id="rId2" Type="http://schemas.openxmlformats.org/officeDocument/2006/relationships/hyperlink" Target="http://www.soinc.org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SO LOGO"/>
          <p:cNvPicPr/>
          <p:nvPr/>
        </p:nvPicPr>
        <p:blipFill>
          <a:blip r:embed="rId1"/>
          <a:stretch/>
        </p:blipFill>
        <p:spPr>
          <a:xfrm>
            <a:off x="2514600" y="609480"/>
            <a:ext cx="3886200" cy="19353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9718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2011 DISEASE DETECTIVES (B,C)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14600" y="4512960"/>
            <a:ext cx="6440400" cy="18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KAREN LANC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ational Bio Rules Committee Chair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karenlancour@charter.ne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8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Reducing the Risk of Food Borne Illness</a:t>
            </a:r>
            <a:br>
              <a:rPr sz="4400"/>
            </a:b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2017800"/>
            <a:ext cx="89550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ok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meat, poultry, and eggs thoroughly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eparate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don’t cross-contaminate one food with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hill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refrigerate leftovers promptly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lean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wash produ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port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suspected food borne illnesses to the local health depar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Event Makeup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ormat and material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of the Division B and C event is similar except that the level of reasoning and math skills should be consistent with the grade lev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ifferences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 between the two levels should be reflected in both the type of questions asked and the scoring rubric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EPIDEMIOLOGY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955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alth of populations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stead of individu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cientific method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organized problem sol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istribution and determinants of disease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 human popu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event and control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hose dis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alth-related event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hronic dis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nvironmental proble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behavioral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jur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fectious dis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Types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of skills needed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ecogniz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isk factor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for health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Know th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mponents of the scientific method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used in investigating a disease outbreak to real-life situations affecting heal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Understand and interpret th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asic concepts of mathematic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(rates &amp; proportions as attack rate,  relative risk &amp; odds ratio) used to assess health ris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ecognize an epidemiological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ase 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Know the different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ypes of study design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used by epidemiologists and be able to recognize them from written account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Scientific Method as related to Disease Detectives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2017440"/>
            <a:ext cx="8726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btain Backgroun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efine the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rmulate 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evelop a Study to Test the 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ollect Data and Ob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valuate Resul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etermine if Hypothesis is true/mod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rmulate 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eport Resul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Compare these steps to 10 Steps in Outbreak Investi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3436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Outbreak Investigation</a:t>
            </a:r>
            <a:br>
              <a:rPr sz="4400"/>
            </a:b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10 Steps </a:t>
            </a: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8955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utbreak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–  (localized epidemic) – more cases of a particular disease than expected in a given area or among a specialized group of people over a particular period of time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Epidemic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– large numbers of people over a wide geographic area affecte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Pandemic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-A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epidemic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occurring over a very wide area (several countries or continents) and usually affecting a larg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proportio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of the popula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luste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–an aggregation of cases over a particular period esp. cancer &amp; birth defects closely grouped in time and space regardless of whether the number is more than the expected number. (often the expected number of cases is not known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Public Health Surveillanc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the systematic collection, analysis, interpretation, and dissemination of health data to gain knowledge of the pattern of disease occurrence in order to control and prevent disease in the commun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ahoma"/>
              </a:rPr>
              <a:t>Step 1: Prepare for Field Work</a:t>
            </a:r>
            <a:endParaRPr b="0" lang="en-US" sz="36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Research, supplies &amp; equipmen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–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he disease or situation and gather nee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upplies &amp; equipment to conduct the investi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dministrative arrangement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– make official administrative and personal travel arrang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ocal contact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- follow 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Step 2: Establish the Existence of an Outbreak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xpected # of cases for are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– use records as health dept., hospital records, death records,  physician records, doctor survey to determine expected # for the area in a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ther factors in pla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– numbers may exceed normal due to factors such as b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porting, seasonal fluctuations, populatio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Step 3: Verify the Diagnosis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per diagnos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verify the procedures used to diagnose the problem and check methods used for identifying infectious and toxic chemical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t lab 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be sure that the increase number of cases are not due to experimental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mmona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terview several persons who became ill to gain insight concerning  possible cause, source, and spread of disease or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094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ahoma"/>
              </a:rPr>
              <a:t>Step 4: Define and Identify Cases</a:t>
            </a: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ase defin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stablish with the 4 components or standard criteria for determining who has the disease or condi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linical inform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about the disease or condition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haracteristics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- of the affected peop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ocation or place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as specific as possible as restaurant, county, or several specific ar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ime sequence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specific time during which the outbreak or condition occu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6880" y="214200"/>
            <a:ext cx="62769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Guest from CDC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2971800"/>
            <a:ext cx="8269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Candace Kirksey Jon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214200"/>
            <a:ext cx="6400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Case Definition for</a:t>
            </a:r>
            <a:br>
              <a:rPr sz="4000"/>
            </a:b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 Influenza-like (ILI)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A case of influenza-like illness (ILI) or influenz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is defined as a person with fever of 37.8°C (100°F) or greater orally or 38.3°C (101°F) rectally PLUS cough during the influenza season (October 1 through May 31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 person with laboratory confirmed influenz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is also considered a case even if the person does not have cough and fever.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Identifying cases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dentification of specific cas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kind &amp; number – count specific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onfirm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have diagnosis with case definition plus lab verific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Prob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many factors point to diagnosis but may lack lab ver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Possi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some factors point to diagno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te: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itial reports may be only a small sampling of the total problem.  Be sure to expand search to determine the true size and extent of 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Line Listing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978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Line Lis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chart of specific cases including information about each cas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dentifying inform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- ID or case # - left column + name or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itia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linical inform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diagnosis, symptoms, lab results, hospital – deat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escriptiv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date &amp; time of onset + date of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escriptiv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 age, sex, occupation, other characteristi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escriptive: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street, city or county + specific s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isk factors &amp; possible caus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specific to situation (disease) and outbreak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Sample Line Listing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ample Line Listing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rom six case report forms on a wedding reception outbrea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ID # 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Initials 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Date 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Diagnosis 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How 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Age 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Sex 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County 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 Physician  Weddin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of Onset          Confirme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1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KR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7/23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probable trichinosis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Not done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29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M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Columbia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Goodman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Ye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2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DM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7/27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trichinosi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Biopsy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33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M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Columbia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Baker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Ye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3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JG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8/14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probable trichinosis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Not done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26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M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Columbia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Gibb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Ye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4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RD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7/25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trichinosi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Serologia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45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M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King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Webster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Ye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5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NT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8/4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trichinosi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Not done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27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F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Columbia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Stanley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Ye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6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AM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8/11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R/Otrichinosi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Pending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54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F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Clayton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Mason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Yes </a:t>
            </a:r>
            <a:r>
              <a:rPr b="1" lang="en-US" sz="1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Step 5:  Describe in terms of  Time, Place and Person Triad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IM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a histogram showing the course of the disease or outbreak to identify the source of the exposure  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Epidemic Curve or Epi curve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(Begin early &amp; update often)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ACE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geographic extent plus spot map of cases to identify groups specific to a location or environmental f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ERSON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identify the affected population by type of person or by exposures as age, sex, high risk exposure as with A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2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EPI Curve (Epidemic Curve)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5714640"/>
            <a:ext cx="8650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x axis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= units of time equal to  1/4 to 1/3 incubation time and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y axis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= # of cases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ote: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a single point or source will have only one peak, a plateau will show a continuous common source, several uniform peaks will indicate a propagated outbreak spread from person to pers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0" y="2017800"/>
            <a:ext cx="876312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Types of Descriptive Studies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Types of  Descriptive Studi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– Study the distribution of a problem by cases or outcome, frequency in population, exposure, time pattern or environmental factor  (Studies without a control group can be used for descriptive purposes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Case repor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/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case seri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– case report = detail report of a sing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atient from one or more doctors  while case series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characteristics of several pat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Correlative studi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– correlates general characteristics of t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opulation with health problem frequency with several grou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during the same period of tim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Time series analys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– correlate within the same population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a different point in tim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Ecologic rela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– correlate relative to specific ecologic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            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factors as die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Cross section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- a survey of a population where participants are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elected irrespective of exposure or disease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ahoma"/>
              </a:rPr>
              <a:t>Step 6: Develop Hypothesis</a:t>
            </a:r>
            <a:br>
              <a:rPr sz="3600"/>
            </a:br>
            <a:r>
              <a:rPr b="1" lang="en-US" sz="3600" spc="-1" strike="noStrike">
                <a:solidFill>
                  <a:srgbClr val="cc9900"/>
                </a:solidFill>
                <a:latin typeface="Tahoma"/>
              </a:rPr>
              <a:t>(Agent/Host/Environment triad)</a:t>
            </a:r>
            <a:endParaRPr b="0" lang="en-US" sz="36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gent /host /environm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= agent capable of causing disease &amp; its source host or persons susceptible to agent + environment allowing them to get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Infectious Groups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viruses, bacteria, protistans (protozoa), fungi, animals (wor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estab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hypothesis must be in a form that is tes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urrent knowledge &amp; backgr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it should be based upon current knowledge and be updated or modified as new information is uncovered!!!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Step 7: Evaluate Hypothesis </a:t>
            </a:r>
            <a:br>
              <a:rPr sz="3200"/>
            </a:b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(Analytical Studies = Control Group)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ompare with established fact – these are used when evidence is strong and clear cu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bservational  Studies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 (Study determinants of health problems – how &amp; wh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Cohor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–  Based upon </a:t>
            </a: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exposure status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whether or not they have outcome (illness) </a:t>
            </a: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works forward from exposur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Case-Contro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- Works </a:t>
            </a: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backward from effect or illness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to suspected caus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Must have lab verification to validate hypothesis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Cohort Study – Exposure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Both groups have a known exposure and are checked for future outcomes or illn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trospective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: (historic cohort)  starts at exposure in past &amp; moves forward to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rospective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: starts a present exposure and moves forward in time to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Event Rules – 2011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9360">
            <a:solidFill>
              <a:srgbClr val="00e4a8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DISCLAIM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is presentation was prepared using draft rules.  There may be some changes in the final copy of the rules. 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The rules which will be in your Coaches Manual and Student Manuals will be the official rules.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Sample Cohort Study </a:t>
            </a:r>
            <a:br>
              <a:rPr sz="4400"/>
            </a:b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using  2 X 2 table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00 peopl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ttended a special awards dinne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ome persons became ill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he suspected culprit was th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potato salad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. The population at the dinner was then surveyed to determine who became il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isease Yes        Disease No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xposed  (Ate salad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50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(a)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30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Unexposed(no salad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50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(c)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70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(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2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Calculating Attack Rate &amp; Relative Risk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017440"/>
            <a:ext cx="8497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isease Yes        Disease N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xposed  (Ate salad)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50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a)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    30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nexposed (no salad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50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c)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  170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Attack rat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the rate that a group experienced an outcome or illness= number sick ÷ total in that group (Look for high attack rate in exposed &amp; low rate in unexpos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xpos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= a ÷ (a+b)  = 150 ÷ 180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unexpos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= c ÷ (c + d) = 50 ÷ 220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Relative ris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[a ÷ (a+b)] / [c ÷ (c+d)]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80% ÷ 20%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Interpreting Results of Cohort Study  </a:t>
            </a: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75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lative risk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estimates the extent of the association between an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xposure and a disease. It estimates the likelihood of developing the disease in the exposed group as compared to the unexposed gro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75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 relative risk &gt;1.0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indicates a positive association or an increased risk. This risk increases in strength as the magnitude of the relative risk increas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75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 relative risk = 1.0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indicates that the incidence rates of disease in the exposed group is equal to the incidence rates in unexposed group. Therefore the data does not provide evidence for 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ssociati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75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lative risk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is not expressed in negative numbers.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Case Control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- </a:t>
            </a: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Illness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650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Works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backward from effect or illness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to suspected ca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ontrol group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is a selected group who has similar characteristics to the sick group but is not ill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hey are then checked for similar exposur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It is often hard to select the control group for this type of study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Odds Ratio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is calculated to evaluate the possible agents &amp; vehicles of transm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9840" y="214200"/>
            <a:ext cx="734364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Sample Case-Control Study</a:t>
            </a: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50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Sample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Several patients were diagnosed with Hepatitis A.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he local Restaurant A was thought to be the source of the inf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40 case patients and a similar disease free group or control were contacted to determine if they ate at Restaurant A.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2 X 2 tabl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te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Case patient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ontrol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Y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b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6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6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70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ot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06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146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360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Calculating Odds Ratio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2 X 2 table of data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te                   Case patient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ontrol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Ye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 =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b =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36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 =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 =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7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Tota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4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06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4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Odds Ratio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Odds of exposure in cases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 =  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a/c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 =   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ahoma"/>
              </a:rPr>
              <a:t>a d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= 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30x70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=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.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Odds of exposure in controls       b/d           b c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6x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This means that people who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te a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estaurant A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were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.8 times more likely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develop hepatitis A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than were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people who did not eat there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.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a = # of case patients exposed          b = # of control expos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 = # of case patients unexposed      d = # of control unexpos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5722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Step 8: Refine Hypothesis and do Additional Studies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7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o confirmation of hypothesi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- where analytical studies do not confirm hypothesis. May need to look for a new vehicle or mode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ore specifi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– May need to be more specific in make up of case patients &amp; contr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erify with environmental/laboratory studi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-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verification with very control conditions is very import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Step 9: Implement Control and Preventative Measures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74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s soon as source is know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people are sick or hurting and need he must know agent &amp; source of agent + susceptibility of host+ chain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im at chain of agent-source-ho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break the chain of transmission at any of its 3 point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y interrupt transmission or exposur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vehicles as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ay reduce susceptibil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with immunization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egal issues and/or education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Criteria to Draw Conclusions 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50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emporal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cause/exposure must precede effect/outco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nsistency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observation of association must be repeatable in different populations at different tim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herence, 1-1 relationshi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exposure is always associated with outcome/ outcome is always caused by the specific expo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rength of associ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relationship is clear and risk estimate is hig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iological plausibil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 biological explanation makes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ose/response (biologic gradient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increasing risk is associated with increasing expo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ahoma"/>
              </a:rPr>
              <a:t>Step 10: Communicate Findings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34552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al brief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– inform local health officials or other need-to-know groups as soon as information is availab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ritten repo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– usually done in scientific format for future reference, legal issues, and educ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Event Rules – 2011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BE SURE TO CHECK THE 2011 EVENT RULES </a:t>
            </a: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FOR EVENT PARAMETERS AND TOPICS FOR EACH COMPETITION LEVEL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836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Division B – Regional/State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905120"/>
            <a:ext cx="849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odes of 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alculate health-related rates  (attack, incidence, prevalence, case fatalit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alculate a simple relative risk and describe what it mea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nterpret epi curves, temporal patterns and other simple graphic presentations of health data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List, discuss and recognize examples of disease causing agents (physical and biologic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emonstrate an understanding and ability to use terms such as endemic, epidemic and pandemic; population versus sample, association versus cau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escribe various types of prevention and control strategies (e.g. immunization, behavior change, etc) and situations where they might be us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Division B – National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017440"/>
            <a:ext cx="8497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Understand how units affect the relative magnitude of a set of rates with different uni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alculate appropriate measures of risk when given the study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omplete tables when given all data needed to complete calcul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ropose a reasonable intervention to a public health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cognize gaps in 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Division C – Regional/State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cognize differences between study desig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alculate measures of risk (e.g. relative risk or odds ratio) when given a description of the study desig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alculate measures based on data that is not given but that can be readily extract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cognize how gaps in information influence the ability to extend conclusions to the general popul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Division C – National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Recognize unmentioned factors that may influence resul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onvert between rates with different basic units (e.g. incidence per 10000 persons/year to incidence per 100 persons/week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Propose a means to evaluate the effectiveness of an intervention or control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2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TRAINING MATERIALS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raining Power Poi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content overvie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raining Handout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- content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ample Tournam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ample problems with ke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vent Supervisor Guid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prep tips, event needs, and scoring tip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nternet Resourc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amp; Training Materials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– on the Science Olympiad website at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soinc.org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under Event Inform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isease Detectives &amp; Biology-Earth Science CDs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, as well as th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ivision B and Division C Test Packets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are available from SO store at</a:t>
            </a:r>
            <a:r>
              <a:rPr b="1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soinc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Epidemiology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26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011 focus is food borne illness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efinition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f basic epidemiologic te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ategorie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f disease causing ag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Mode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f disease spr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riad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of analysis (e.g., person/place/time &amp; agent/host/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asis for taking action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to control and prevent the spread of dis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Process Skill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hypothesis, observations, inferences, predictions, variable analysis, data analysis, calculations, and conclusion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Event Parameter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be sure to check the rules for resources allow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Some Causes of Food Borne Illness 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600" y="2017440"/>
            <a:ext cx="8726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Vir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aras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rotoz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Natural tox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ther pathogenic agents (as Prion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Most Associated with Food Borne Illness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520" y="2133360"/>
            <a:ext cx="8574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aw meat and poul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aw eg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Unpasteurized mi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aw shellfi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aw fruits and vege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Unpasteurized fruit ju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ahoma"/>
              </a:rPr>
              <a:t>Food Processing Concerns </a:t>
            </a:r>
            <a:endParaRPr b="0" lang="en-US" sz="4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2017440"/>
            <a:ext cx="84978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ross contam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rocessing under less than sanitary condi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aw fruits and vegetables – not wash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oods that mingle the products of several individual anim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torage and transport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5T13:52:21Z</dcterms:created>
  <dc:creator>Preferred Customer</dc:creator>
  <dc:description/>
  <dc:language>en-US</dc:language>
  <cp:lastModifiedBy>Karen Lancour</cp:lastModifiedBy>
  <dcterms:modified xsi:type="dcterms:W3CDTF">2010-10-20T12:55:19Z</dcterms:modified>
  <cp:revision>49</cp:revision>
  <dc:subject/>
  <dc:title>DISEASE DETECTIVES (B,C)</dc:title>
</cp:coreProperties>
</file>